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A8B-F493-430E-8D43-BC71BAA5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404-A5EE-49C6-A2A3-F97D0EFB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E99-23C5-41B1-86F7-A90CDFF1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58F-1EC4-4D8D-A549-47AC8276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5CF5-2D24-47BC-8BDF-DA4D7333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3517-B25C-4284-B746-31C4BC2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9B0-7AAC-425E-B2B9-F82E4643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8FE-A475-4583-9C03-EAE00EB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ECC-D702-4A87-BDBC-7CC79DA5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0F3A-1A72-4C79-8F44-36718C0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03B-3A5A-4DF2-A5E3-BAE88A5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924-0E46-40B5-91C3-02C9E601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7195-92A3-4DA8-9E5B-9E99307B1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Disorder Name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group member nam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set and Cour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alen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ial Patte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 creative…what else would be good to know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on 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ct DSM wo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t means/exampl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erion B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ct DSM criter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t means/example 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process continues with Criterio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1:04:45Z</dcterms:created>
  <dc:creator>SASD User</dc:creator>
  <dc:description/>
  <dc:language>en-US</dc:language>
  <cp:lastModifiedBy>John Hampton</cp:lastModifiedBy>
  <dcterms:modified xsi:type="dcterms:W3CDTF">2011-11-15T12:03:44Z</dcterms:modified>
  <cp:revision>3</cp:revision>
  <dc:subject/>
  <dc:title>(Disorder Name) </dc:title>
</cp:coreProperties>
</file>